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2ACEB-2F8B-46C7-85A7-7075ADD83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9AF8E-7583-41D3-A453-E61A2F99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C05D5-F1CD-4D34-908F-688B80B4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C4197-391D-4D3F-9132-67B7156E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EBBA4-9FF9-46FB-A132-F934E478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86C08-407F-4587-85A6-E189D5DF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0A66C-58B9-4D31-9E2C-11B88B75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0BA46-CF8E-4EA1-A87E-E2897FF1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6628-2E34-4664-B75C-83721D74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0C0A8-6515-4E17-BCE3-ADB3CEEB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F85-07E2-42C5-8501-225C0195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485-A5A4-45A4-9CCF-4136B337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34E5F-2445-4621-BB4D-7A1116B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4A57-ACBA-471C-85F5-AD7EC367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332E5-B77A-4BD0-A056-3C3D439D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DA35-A888-412D-BE08-1DE4EBE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BF8C-324C-432A-BD51-F6FA090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5FCC4-31D2-4F0C-A68A-75F0C25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0F4CF-7FBD-49E1-8E8A-7E40EB8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E9E34-614B-4BBE-9BC3-D98DA632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63A68-56ED-4955-8C48-8462DF0D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218E5-BC06-4775-B853-64752ABA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EE-0519-4D67-A97B-4D399102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CBD7-DD53-464C-9BE8-6E2BCCE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6A6CE-2169-484A-81B6-F5E5E62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73007-C3C5-46BE-8794-B9A8D46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CCBF3-F040-455B-AF3A-5A22E8D8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6D865-E4DC-4AA8-9E67-674165F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646E3-2086-467A-961C-120C50E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2637-9F5D-4644-A962-CC4E2D3C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7E99A-D31B-4A1E-ADFF-71645FF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29AE6-B4E5-4D3C-BD2A-4FF9DE9A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D59B7-C687-44D1-B0E6-FBEFA44C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E4E-88B5-4D5C-8079-00C8113A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1045B-3402-4767-9335-9677096A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5949E-C317-4676-A244-448FABD6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BB55-77C0-4B26-BE53-AF12775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3774-13AA-41DC-B6EE-8E0D75B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58C9-302D-419A-B2D8-2B206F1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4A067-52D3-4C01-823A-A08381E7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0F5E-F8F9-4589-A227-B2EB7C1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86B0-0482-4E9C-B9C6-DB0417F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A96CA-1234-4ACA-AB8A-A00CD82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78A8A-CAEF-4DA0-BAD5-0266B8E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DC4E-DA2E-4EA7-8639-32C06E12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3A84B-8084-4A9C-ADE9-57C3876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C23DD-CA38-4446-906E-65F11E95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10330-BBE5-4BDE-AD84-FC2FE9E8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6012-7367-404E-945E-9FA4A292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52889-BB5C-4B56-8D41-F6D39200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FB5C-64F4-4326-8451-06DAD50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DB8E6-C75B-4E43-99C9-459D0B0E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31D66-C226-4224-AC92-5305F6FC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66D08-8A38-48D6-AB0D-143D103C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C7235-3D83-445C-AD6F-A5A679E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8AFD-8C75-4841-94EA-574AF64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B57A-8333-4CF3-ABED-A1D7C29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34AA2-B264-4A69-BBF3-43FADF1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FA69F-7F84-4E16-A5A8-E8B9AD7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8C36C-A2FF-4F6C-B8F2-A8A5D9F6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05F86-AC32-4AE0-B1AE-51DAC735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90CF8-D700-4422-A5E2-8F4FFE52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38B76-D2B4-48BE-8D19-2328D86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F8C72-7394-4B49-BB7B-130771C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6064B-0684-49D1-AE04-46E957E3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B1D45-7971-4063-A8BB-D2C5393E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F498-D9D5-493C-ABCA-625421FA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3A781-469E-4274-802A-1D599D8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F12D3-7B31-4BC7-A8D2-2E973A8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3473B-8AA5-4B0D-BC07-C2A361F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CEE14-9F61-4CCD-9114-05E8D65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16C75-0706-41CA-B954-39CB0E5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3F070-1A5F-4402-8A2E-C6FEEE3F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83C52-C0D7-4239-8E9C-CA2F0336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30F96-505C-4DF8-9E36-F0F5C813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AFC2E-7187-4EED-BDFC-D3CBD8DD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C824F-CE6F-4DC3-8593-3A02D46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AB68-11F9-4AB3-8F2D-9C2A301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EB79-54E6-443A-88A6-2C0780DD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71217-8E8B-4594-80E3-932BBB1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27523-0D67-4CA9-BE32-A9D68EFA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C0312-EE06-46CC-AE2E-8736CF6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37F03-9FF9-4F59-8DC7-2E37D19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6CD82-4196-4002-8B37-928DAE7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84B62-F9C4-4703-B66C-9FB57C6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4AF88-D2CC-4363-B0CA-323749A3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D188F-F279-46B3-8C20-1A98F8E1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65A6D-4D32-48E3-A3ED-E865047F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E20-F11E-4297-A890-6D29092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23EF7-47B1-41F1-8002-44BCAF01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52AB1-F1FD-408F-96E3-08E86E4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00AB9-4933-4108-B372-43AF01C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6DF05-240D-4CE6-BF25-ACBE3E2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A5E6F-6645-4FC5-BA65-9AD2308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2D154-1FF5-4640-AA6B-C92F6EC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6243A-2F27-4034-854A-B8177CF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B4B1F-3224-4753-AE01-B421839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0E60C-7A67-4C14-B991-440D47D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F8030-2D9E-4D9E-B845-8BB7FA2E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D87B-3C59-43E0-880E-08A892D8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152B8-56FC-45E8-9B54-B5F4AE67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2CF63-6345-49DF-AAC5-646DD9DF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7783E-C61C-4C61-94D9-7556A27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8321B-4486-4617-8C25-1CE5E38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775FB-9627-42FE-9C6E-90913FC4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2F30A-897E-461B-B5D8-C68DD2D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C7A19-F4E2-49E0-AF2A-456C8212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4F819-87AB-4B6B-A6FC-693464B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09B2B-1A3C-4DA1-BE93-238D5E0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C3DB4-1FEB-4C29-B432-EA25239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ADC-9901-46F9-8BA4-36B01EA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55A98-0AAB-4DBF-8574-108CE74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3AD16-20F6-4139-9E97-B4BB06C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D591B-77DF-4875-89F8-299FA625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BFDF8-480E-45AB-A0BA-7DEDB56C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D0680-3805-4A2C-A29A-BFD4067E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61387-1E79-4D72-88BC-7180474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15530-6191-4EF1-8104-6FDE8E71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672C8-FC1F-487F-84E5-3C40004F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01106-5C1E-42DC-AF05-89792C3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A7106-D235-47E4-96D5-7ECAC4F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F97-AC9D-405E-934E-9E83AEC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1EE3-B678-469C-81D4-02413C2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D41B2-4A14-4DB3-9E66-3D842C4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6A331-01D7-4AA5-BB60-B013A04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F2CDD-92B0-413A-A3F1-412275F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9B867-1356-4006-9706-FA91D1A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9F2C7-646D-4B1A-BD88-20076BD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3672-A598-4EBE-885C-D25A8EA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4351-01A4-4A74-BBD5-91BAB722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95E-29A0-44E7-95E2-860CD47C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C0E-F518-49DB-BB83-20E6F5D8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6A57-4ED2-47FF-9599-9B3ECBB0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CD14-39AD-4BAC-8CB0-E84CAFE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A41A-2662-4857-9757-F6BE87CF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E92F-8733-4AD1-9386-CA76C5A9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E9DC-760F-42A1-AF9D-E8C71CB2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4FA-3DA5-4CF8-B9CD-3236C14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3C63-1D25-4B13-ADA8-94B4F72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5DD5-5C95-458D-AF1A-B3E9132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F785-8078-4935-AC10-FDC601A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F41A-A66C-44EF-9D05-01B259E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E18E-CCA1-4603-BCD5-254CAFFA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4B75-EAF6-4378-8646-B5924927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D021-91CE-4861-8C27-37A365AA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67A3-8383-40EB-92E1-0F877C29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AEB1-CA1D-4A9C-8841-4940326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E057-70B4-4C53-A4D3-4B8FA9D5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01E-539D-4476-8320-C004B67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215B-1DC4-41E9-8603-367AD2A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60AC-0A55-4710-95C8-DCBD4ADC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7180-E09F-4B4D-9D1E-547286E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89AE-B1A1-43C1-8C55-25E7285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6D83-8E9D-4A30-BF50-A0694DC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D4A4-E549-4157-8FAE-6A9B4A9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8367-91F6-49CD-BB7C-84B2CD5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8D25-3B19-4371-B75D-EFFFEB8E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1B71-9FDF-412E-87BE-8C18A948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FCF3-51BA-4626-8A64-3F2D492C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8E2-B89A-4B11-B9A4-6AEDFED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1789-FEF1-486C-8848-8403FAA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68C9-1413-4A73-919B-A6DFC4C3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A6F1-D263-49C6-BC03-DAC181E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C37C0-F9A3-468E-8BD0-6C559644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4088-CE1A-4E93-B884-7D917AD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F74F-D5AA-4A9F-814D-C10EAA8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235E-E02A-4324-9F11-71C2E49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3D4C-4A52-4167-B48E-EA48ADA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1FFA6-62FE-4379-BDCF-FDA7CA0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42CC-7846-4FEC-9D0B-2AA5D11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95-1509-4920-861B-3AD5E983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AE1D-9073-4F31-9B0F-57DF0F6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2D615-623A-4B6E-BFAA-57818DBB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31C4E-85B8-4999-9CB0-8F5ADB92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22E7-BA79-41B6-B2F8-80EBE22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4071C-1C1A-4DAF-9E50-7FFB7A0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F4AC-5C72-4AB4-BAB9-F757D28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DAC4-969A-4FC6-8258-7DDB42D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C67F-9BAE-42FE-AE59-8CCBABA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8F1F7-AB3A-46BE-BD6C-695DB73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D458-ACE4-4C0E-9D46-705AFC8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3E7-72B4-4A1F-8F7A-943EA5E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9D4E-9124-474E-B788-5078185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AE55-6B17-43CB-8B72-8D00317A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5654-A343-4A28-9D51-DC2E39D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2694-47D4-46AA-8F36-B5E6EE78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59FF-638D-4650-A0A0-78284EF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D7CC-6C65-4BCB-912E-14AB538B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F936-FB9E-4A6C-99BC-7BDB8DC5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6C42-3250-4ED5-99E5-D414106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A813D-8C4A-47BD-838F-4C68E62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4E8B-E5FA-4E18-9CDD-9CDC0C6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4D2-F613-455F-A917-72C988E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5AF7-B87A-4BB0-B2CC-3B08BBB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A48CD-1483-44BC-9059-20E2C51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7CE9-C09A-48F5-BC8F-EEA7602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17A80-90C6-4583-885B-C5C0C81C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A1F7-76B4-4EB2-8A2C-9E40BDEC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27510-6ED1-476D-8F77-5C8A8F7F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9ECF-E60E-45D9-9C60-679D930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5A73B-AB14-4954-9069-D452974E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8124-271E-4CEC-8844-EBE6D70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C552-FB6A-425B-9FB2-35423A53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C48-45FD-4A3F-8DC1-3560EBD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7F7E-B806-45F7-99E1-C85B599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A4D45-5D92-4965-86E5-9EF12EA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76700-E747-421E-828E-8F3BC93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4FA64-0656-48C5-9D59-2E501F5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3C49-3A63-4709-9AF9-5504735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4E319-AB48-4E7F-921E-CBF182B7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BBCD-64C0-44F6-B099-6A3287BB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49563-FBC1-44E4-879E-D3917DAF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01B6-4658-4B3B-AD60-0B99F5F1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DBDEC-7888-4538-A475-9880C6A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9B79E-95DF-44E9-B708-30BCEAA00C1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AD1B8-5B4F-4F0F-8B9D-AD2731EA879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14663-4474-4AAF-BD62-A75A6AD0A63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656DB-78D5-46C7-A7C8-6F5FF60DC73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FE1C8-6202-4CF6-A93D-73C4D992E54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19368-5821-4C9B-AEA5-F1DBDE543DF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8999D-C781-4976-8687-B4E69F60181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65A03-C917-4788-A758-0E8F1B1DC35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98B31-300F-478C-88B8-6F45FA08B34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50DFC-8746-4A2A-939C-DCFB1B56FCE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812D-8D07-4406-8751-5893497C918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AC54A-80C2-4350-A7A1-29E5B300A8A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BAEC7-5FAD-42C3-8200-796235CEDCD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1FCD3-AB78-4FC5-A5D8-957153D22FC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FAD05-4500-48AE-A292-AD6EDE694E2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380A1-9A74-4AE9-993C-2F87EDDDF9D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7C63D-7E5A-46D2-BB82-7735FD3B928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623B1-CA4E-48F3-BBDA-E2B755A3D05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50C24-E358-4056-8883-B597988782B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7048A-1246-43BD-A525-43DC064C357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20ADA-0453-4E3D-98B6-9EC10E22042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BA6B6-595B-495B-9FDF-E40B367CA4F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8B67F-0B02-42D5-98DC-69634753868E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B251E-2BC1-445B-819B-4C56ADF873B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E27E3-6D65-4009-B00E-B871D78297E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68417-A15E-40B1-84E8-0549629CE3A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86EA5-6F74-4734-A603-378B296945E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17467-2778-4C95-B38F-544B4D8A19D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482DE-167A-4DBB-B270-400198205AF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1DC92-3AC2-46C2-8288-02E29518B87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79DC1-419D-477B-B80C-F8B51174025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CEFE7-E7A3-44C2-81B4-8D00C3710CB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D8DB2-DB0F-4028-9F26-6F707934405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80440-BA2A-4E91-8A13-E607E9D81EA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10: Some Final Thoughts on the Information Ag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or Creation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nformation economy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 - what is it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What are value-added activities in the information economy?  (and what aren’t all that valuable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hree Trends (Pink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bund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uto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s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bundanc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e developed world has most its basic needs sorted 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eople don’t necessarily need more stuff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ew products not about need but want (and engineering that want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fficulties resulting from this? See Annie Leonard’s Story of Stuff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utom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oducts are increasingly produced by machines (e.g., robotics in manufacturing - reduced labor costs, higher precision in most cases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ut so are professional services - e.g., DIY law, accounting services, etc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he more clear the task, the more likely a machine can do it cheaper and better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si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lliteration! (Think globalization - also includes BRIC countries and elsewhere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Global work transfer - not just cheaper manufacturing labour but also cheaper information economy labour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-435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any qualified scientists, doctors, engineers in BRIC - often available at a fraction of cost (*until wages normalize at least…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35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The Conceptual Age: High Concept, High Touch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Previously privileged talents increasingly automated, outsource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reativity - not just information processing - is the real value-added activity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ore complicated than following rules - must be able to manipulate and create them to new end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Rise (and Flight) of the  Creative Class (Florida)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Creative class” growing in number and power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Talent, technology and tolerance (e.g., the “gay hypothesis”) drive creative class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National/worldwide competition for creative talen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  <a:ea typeface="ＭＳ Ｐゴシック"/>
              </a:rPr>
              <a:t>Creative class thrives in creative communities – and leaves those that aren’t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Implications for (Your) Education and Employ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 troubling trend in higher education – standardized testing (and teaching to the test) and programmatic learning via rubr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But…creative class defines rules, not blindly follow them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micry of instructions is not education – e.g., McCloud’s surface vs. deeper engage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30920" indent="-430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 the workforce – high end careers define rules, low end follows: which do you want to b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In-class assignment (due today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will you do to ensure you’re worth something of value in today’s econom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shouldn’t you do if you want to keep that posi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Final Exam Tip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10-15 MC questions (20-30%) – more factua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t of short answer questions related to case(s) (70%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ase questions – more interpretation and application than regurgitation - don’t just repeat concept definitions – apply to case con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y by taking concepts and applying them to new situations - if you can do that without issue, you’re probably fi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marking almost done – returned by next week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cycle should be done ASAP – by Saturday, anything you say won’t be of much us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Remember message, medium and audi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ssemination strategi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 Critical Take on the Information Ag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Winner’s mythinformation - technology adherents take to near mythical descriptions of how technology will change our worl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Platitudes easily rejected – e.g., today’s “death of print” sounds the same as the “paperless office” 30 years ago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our Myths of Inform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eople are lacking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formation is knowled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Knowledge is pow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formation access = democrac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rbel"/>
              </a:rPr>
              <a:t>Data, Information, Knowledge, Wisdom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ata = raw for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formation = semantic valu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nowledge = relevance of semantic value and connections with other relevant piece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sdom = ethics, politics of knowledg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ttery exampl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o we really lack information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argue opposite – we’re drowning in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re we are losing the ability to make associations and connections as a resul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x: 500-channel universe, academic journal explosion - little common ground, little opportunity for full analysi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= Knowledge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nformation makes you good at Jeopardy or Trivial Pursuit – but not necessarily knowledgeable, which is about connections and relevanc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9/11 example - information regarding terror cells existed but was scattered, uncoordinated – it existed, but only made sense in hindsigh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Knowledge = Power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Knowledge available at the right time and context to people with the resources to act upon it might equal power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Knowledge without power might be more frustrating than enabling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formation = Democracy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Global, ubiquitous, fast and cheap (Shirky) Internet may destabilize power structures (e.g., OWS, Arab Spring, Iranian Green Revolution)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But resulting discussion can also become more base, ridiculous (e.g., comments on news sites/show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Most people are simply not interested in all the relevant information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Direct democracy can be dangerous (e.g., minority rights), or asinine - e.g., Stockwell </a:t>
            </a:r>
            <a:r>
              <a:rPr b="0" lang="ja-JP" sz="20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Doris</a:t>
            </a:r>
            <a:r>
              <a:rPr b="0" lang="ja-JP" sz="20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000" spc="-1" strike="noStrike">
                <a:solidFill>
                  <a:srgbClr val="262626"/>
                </a:solidFill>
                <a:latin typeface="Constantia"/>
              </a:rPr>
              <a:t> Day examp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17T20:10:54Z</dcterms:modified>
  <cp:revision>91</cp:revision>
  <dc:subject/>
  <dc:title>CCT 300: Critical Analysis  of Media</dc:title>
</cp:coreProperties>
</file>